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  <p:custShowLst>
    <p:custShow name="Clown bounce" id="0">
      <p:sldLst>
        <p:sld r:id="rId24"/>
      </p:sldLst>
    </p:custShow>
    <p:custShow name="Clown Throw" id="1">
      <p:sldLst>
        <p:sld r:id="rId23"/>
      </p:sldLst>
    </p:custShow>
    <p:custShow name="Correct" id="2">
      <p:sldLst>
        <p:sld r:id="rId22"/>
      </p:sldLst>
    </p:custShow>
    <p:custShow name="Wrong" id="3">
      <p:sldLst>
        <p:sld r:id="rId21"/>
      </p:sldLst>
    </p:custShow>
    <p:custShow name="rollover" id="4">
      <p:sldLst>
        <p:sld r:id="rId19"/>
        <p:sld r:id="rId20"/>
      </p:sldLst>
    </p:custShow>
    <p:custShow name="Sardinia" id="5">
      <p:sldLst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90D-2F7D-447D-BC88-97EA8864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269-193D-4F7B-9A2A-C0A44353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7D0CC-C6C0-4BE2-82B4-862161D4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74A91-32DA-4A40-B2C5-01DDE451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EE0F5-4A9A-4232-BE00-74E2F516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88DF9-ED15-441C-BAFD-1D50AA55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18E7D-767B-433A-8678-025D7676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EF2F4-9A82-4817-8AFC-E123FFE6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8D06F-F2B8-4244-AD99-A355283B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F4BC3-F58A-4724-BCBA-A893FC2E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F64DE-2333-4034-B169-CB06687E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AEE19-9278-43B8-8B2A-6EBF71E5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540-66EC-473F-AA6D-ACB32492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D78DC-53C6-471F-9F53-E5E4B6EE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0EFD3-C40A-4CB0-B69D-26E53DA7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76B9C-D6E0-41B5-9AD0-CBA567B4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90A1B-8590-4E12-9BEA-4D32A174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B36C9-77C5-4C86-8C45-D41C7F3D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C906C-4BB1-451B-929B-222F75D3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AF886-2DB8-4BA1-A567-5D20C2C6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2C221-C23A-49D5-AEBE-134A4356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9FB89-A8BC-4916-9345-D7644ED4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B5A72-95CF-4836-A014-61851A49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60A-EBC1-4691-B274-6B0EA285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73498-3748-4F29-AA80-2D0DEF0C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9EEF1-E685-4CB0-BDAE-28E33BBF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DF57F-6026-49F2-8F15-EBD907C6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50F64-2C89-4389-8BC4-7B40E621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59244-A2A0-4723-9A4B-DCC9DD18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693ED-1FD5-42EF-B6E6-FF03B679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B27E5-7F11-4821-BFB8-73B64736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DCFA9-9E3C-46BB-BB4E-2CB9EDB2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FD007-A7FC-4AA0-90A2-FF12ADAD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1E908-6361-4D93-961B-1C1D6D7B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1509-D6C4-4F53-8572-822F6A3A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79854-3CA9-4351-BF0E-A771E58B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3CF6F-6718-4D7F-8A01-D3507AD6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6D99B-FCE9-4C1C-A906-19630E32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A8518-94AE-486D-AA11-2401E437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5DBE5-4354-4377-BB58-E0600F11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ECEDF-B1EA-4385-9FA3-CE926F89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8AF4D-B865-43F1-A5B9-6E90CCE2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E63D1-804D-4D95-9DDE-BFD41BB0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252B5-F06A-4704-9BA2-6A96CDFE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D737A-FA6E-4735-975E-E1EB11DD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2D70-2B5C-441A-B407-D8A00AC4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01419-E5BC-404C-B593-FFAA48D1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E5D6B-52B9-47B5-9B53-57D8F12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B32FB-762A-497E-AF72-95FFECB8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E1E75-2EFF-4FB5-9B24-ED41D62B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1D75C-3FE8-4543-879C-88C3CFB8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B3BD-13DB-49F1-8D71-7A2BE71F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517F-F04B-4527-858A-9BFF9542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0053-EA85-4371-A88E-A38FC896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8618-93DE-4E1B-839F-121338B0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EA75-7B03-4319-B97D-D4F55526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C11-0201-4AD3-BC4B-F70118FD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8757-7F38-490F-9FEF-7CD19329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328A-433A-49BF-A1A7-0B1E23FD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8363-BAC1-4EB9-AF49-CC82A1C6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77D2-4993-40F9-A9C3-3CB047B3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5441-CD2C-4358-B73F-4D757828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2D28-4EBC-439E-A4E9-E6F5EA4B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CFEB1-0D0B-47A3-B5F6-F4B341A4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DB57C-6023-44CF-BEEF-2B02FFE0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E39E-D30D-4BF5-B105-5558AB0D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F5B9-FB88-4DEB-916D-A45F2D61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316-B6BB-4CBB-962C-DCD56329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F0352-3E61-4324-AB8E-BD7D9D38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43D73-364C-4D82-9A3A-49B57F33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90411-88FD-449A-93AE-64524648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FC82-704F-4315-806B-8728E286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2045-C9EB-4386-ACCE-DFE0F08D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94A4A-CBCD-4FE3-9EDE-78B13E80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40A9-51F1-469E-8244-DAA9578E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66EA3-F54A-42C5-A4FD-2672C6A0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EC134-2364-4F5A-8248-DEEDA829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18593-FE61-44D0-AF75-5B826061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890-B913-4203-8A67-5EF8D779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04852-6B60-4A9F-9821-FB907A58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60C61-6B2D-46D3-944F-5DA2B709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3CAB0-50C3-4236-BF46-5983E34B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EEAEC-A0CD-4E96-A899-A2198BC0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EF64B-1DFD-487F-8D18-589A9D74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98360-DBF4-47BD-8A3C-5CB0FAAA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48C9C-0ABA-4747-9B31-7FBB5F67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EF3E2-56CD-4AB9-97CB-325BBBA3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BEF5E-D4ED-4EDC-8680-9CBF29B8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E44C9-8708-41CF-94BE-E38586A3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A7D-28D3-43B9-A3EA-0E855BF7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9D383-686A-4EFE-B20E-78487832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39EA2-9EA9-49C3-A154-6CDB6E95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83DC6-27B1-44DE-B526-ACEAAE01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312B1-ACDF-44AD-BD30-142A1777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08E39-3519-469F-86EB-EF4EECF8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82B42-3079-4D59-9EDB-170EA391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89285-29CB-4A24-96AB-3251A91F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EF176-1E96-499C-9561-A5662625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FF76B-2B2A-4650-A818-65A8ECC1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AE1F7-80F9-4D93-9A5D-FFA4DA47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A40-8FB3-4258-A53B-31EA12B6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C3DFE-3849-4C4C-A7B9-D521F5E9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3C7DE-EBAF-4CEC-A344-5AFCD48B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8639F-A78E-4FBE-8F9A-528FA293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F79B8-DDB5-4D04-938B-1E21D266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51C37-FECF-434D-8D47-3AE571AE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B6456-D3CD-4AD0-B443-3BCE1FFE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63808-321F-4267-9364-ACD83B96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4D645-90A9-40B2-80F9-87F91B30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E599B-4775-42A7-A062-46E34103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45204-F0CF-489D-BC10-2DEDC59C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9F0-7915-4916-93CB-7A092425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F2FDE-C391-4003-A92F-D9546920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A7BC6-4A5D-4D57-AB22-F373F40B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17648-F1E0-4BDD-AE67-60B8A977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F7799-CF74-4C94-B85A-38E5AA54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3121E-F60E-4963-8C2A-CCE8963A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98C36-B058-44B5-B6FB-57A46C4D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61010-FCA6-4F46-B079-33AAC016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C1886-5B28-41B7-9AE1-9CC7355A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11FD2-4833-4352-A4B2-21BFA5AA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AA657-D496-4434-B572-529D5547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4E2C-01D5-458F-9334-2FC4F74B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D0711-71D8-48DB-9857-2200C437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500AF-81C0-453F-8AB3-E606D49B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24A60-7674-4804-AFA3-AF0B2F5D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9B54D-69DC-4527-BF3F-E677EBD4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AFF05-0F94-4F01-A79A-F39A9396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EED00-7152-40DF-87D0-0FE698FE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02903-8C12-476A-95DF-6B029F8C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A17F2-AE82-469E-9AF5-19D61176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1A8DD-4EA5-4FF1-AB6A-5AEFD257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4D179-D4B1-4E2D-B75A-FB3A83B7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C59-4F72-4B5D-95A5-806A38F6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75A3C-6E91-4F6C-BDD0-1D9CC0D9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4EAC8-6D25-493B-B1B5-E81DC502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14529-AC6D-49B7-8AC1-19C5ED62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2F6A5-A6E6-4825-B140-8A0D533C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3371D-9B2A-4FE9-8A1B-4FD92446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3B944-0FC1-4EEE-B421-7269C165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1A58B-AC4E-4E5D-ADBF-0FAB2D39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83D94-28BF-4DEA-9C53-CF1934EA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678B8-3DEE-4AD5-9389-95EEB03D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4C7A2-EFA5-4BCE-902F-8012C866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www.PPTAlchemy.co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BFB2-D6A8-441B-8D48-FF5211CD680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B5B8-F0AA-41E9-8772-8DC0BFD838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0705-5592-45CC-B2A3-8F81E419E35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8659-990E-4C8B-958A-6E42353D508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98B1-2C63-42C7-955E-F28B6D9830B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8EB4-3414-4B1F-8D9A-819818F86CC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2C05-EFDF-42B0-959B-2712014148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60D4-D65E-4C53-A629-246B4F008DA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8CC1-F7AD-4D10-9B40-448189887F5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B57B-952E-4880-9B72-B6E6ADBA475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BE5E-76CF-47F6-BEED-061E86B867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3AE2-685C-44A4-8B80-EFF17DA638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Mouse over Animation Illusion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493" name="Picture 3" descr="C:\Documents and Settings\John\Local Settings\Temporary Internet Files\Content.IE5\M1GIRSSI\MCj04348850000[1].png"/>
          <p:cNvPicPr/>
          <p:nvPr/>
        </p:nvPicPr>
        <p:blipFill>
          <a:blip r:embed="rId1"/>
          <a:stretch/>
        </p:blipFill>
        <p:spPr>
          <a:xfrm>
            <a:off x="57168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C:\Documents and Settings\John\Local Settings\Temporary Internet Files\Content.IE5\U9ZNHCOW\MCj04239920000[1].wmf"/>
          <p:cNvPicPr/>
          <p:nvPr/>
        </p:nvPicPr>
        <p:blipFill>
          <a:blip r:embed="rId2"/>
          <a:stretch/>
        </p:blipFill>
        <p:spPr>
          <a:xfrm>
            <a:off x="5546880" y="1785960"/>
            <a:ext cx="3597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Mouse over Animation Illusion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23" name="Picture 3" descr="C:\Documents and Settings\John\Local Settings\Temporary Internet Files\Content.IE5\M1GIRSSI\MCj04348850000[1].png"/>
          <p:cNvPicPr/>
          <p:nvPr/>
        </p:nvPicPr>
        <p:blipFill>
          <a:blip r:embed="rId1"/>
          <a:stretch/>
        </p:blipFill>
        <p:spPr>
          <a:xfrm>
            <a:off x="57168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C:\Documents and Settings\John\Local Settings\Temporary Internet Files\Content.IE5\U9ZNHCOW\MCj04239920000[1].wmf"/>
          <p:cNvPicPr/>
          <p:nvPr/>
        </p:nvPicPr>
        <p:blipFill>
          <a:blip r:embed="rId2"/>
          <a:stretch/>
        </p:blipFill>
        <p:spPr>
          <a:xfrm>
            <a:off x="5546880" y="1785960"/>
            <a:ext cx="35971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525" name="Oval 4"/>
          <p:cNvGrpSpPr/>
          <p:nvPr/>
        </p:nvGrpSpPr>
        <p:grpSpPr>
          <a:xfrm>
            <a:off x="6566040" y="3780000"/>
            <a:ext cx="1225440" cy="1225440"/>
            <a:chOff x="6566040" y="3780000"/>
            <a:chExt cx="1225440" cy="1225440"/>
          </a:xfrm>
        </p:grpSpPr>
        <p:pic>
          <p:nvPicPr>
            <p:cNvPr id="526" name="Oval 4" descr=""/>
            <p:cNvPicPr/>
            <p:nvPr/>
          </p:nvPicPr>
          <p:blipFill>
            <a:blip r:embed="rId3"/>
            <a:stretch/>
          </p:blipFill>
          <p:spPr>
            <a:xfrm>
              <a:off x="6566040" y="3780000"/>
              <a:ext cx="12254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6750000" y="3963960"/>
              <a:ext cx="8589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44" dur="1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"/>
                            </p:stCondLst>
                            <p:childTnLst>
                              <p:par>
                                <p:cTn id="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47" dur="1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"/>
                            </p:stCondLst>
                            <p:childTnLst>
                              <p:par>
                                <p:cTn id="4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156 L -0.51337 -0.156 E">
                                      <p:cBhvr>
                                        <p:cTn id="50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Mouse over Animation Illusion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29" name="Picture 3" descr="C:\Documents and Settings\John\Local Settings\Temporary Internet Files\Content.IE5\M1GIRSSI\MCj04348850000[1].png"/>
          <p:cNvPicPr/>
          <p:nvPr/>
        </p:nvPicPr>
        <p:blipFill>
          <a:blip r:embed="rId1"/>
          <a:stretch/>
        </p:blipFill>
        <p:spPr>
          <a:xfrm>
            <a:off x="57168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C:\Documents and Settings\John\Local Settings\Temporary Internet Files\Content.IE5\U9ZNHCOW\MCj04239920000[1].wm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546880" y="1785960"/>
            <a:ext cx="35971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autoRev="1" nodeType="after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1065 0.018 -0.0213 0.023 -0.0213 C 0.054 -0.0213 0.086 0.14514 0.086 0.31157 C 0.086 0.22769 0.102 0.14513 0.117 0.14513 C 0.133 0.14513 0.148 0.22901 0.148 0.31157 C 0.148 0.27029 0.156 0.22769 0.164 0.22769 C 0.172 0.22769 0.18 0.26897 0.18 0.31157 C 0.18 0.29027 0.184 0.27029 0.188 0.27029 C 0.192 0.27029 0.196 0.29159 0.196 0.31157 C 0.196 0.30092 0.198 0.29027 0.2 0.29027 C 0.201 0.29027 0.204 0.30092 0.204 0.31157 C 0.204 0.30624 0.205 0.30092 0.206 0.30092 C 0.206 0.30225 0.208 0.30625 0.208 0.31157 C 0.208 0.30891 0.208 0.30624 0.209 0.30624 C 0.209 0.30757 0.21 0.3089 0.21 0.31157 C 0.21 0.31024 0.21 0.30891 0.21 0.30758 C 0.211 0.30758 0.211 0.30891 0.211 0.31024 C 0.212 0.31024 0.212 0.30891 0.212 0.30758 C 0.213 0.30758 0.213 0.30891 0.213 0.31024 E">
                                      <p:cBhvr>
                                        <p:cTn id="59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C:\Documents and Settings\John\Local Settings\Temporary Internet Files\Content.IE5\NVY6RCLK\MCj04336080000[1].wmf"/>
          <p:cNvPicPr/>
          <p:nvPr/>
        </p:nvPicPr>
        <p:blipFill>
          <a:blip r:embed="rId1"/>
          <a:stretch/>
        </p:blipFill>
        <p:spPr>
          <a:xfrm>
            <a:off x="303120" y="1135080"/>
            <a:ext cx="3768840" cy="48448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sarfinia.jpg"/>
          <p:cNvPicPr/>
          <p:nvPr/>
        </p:nvPicPr>
        <p:blipFill>
          <a:blip r:embed="rId2"/>
          <a:stretch/>
        </p:blipFill>
        <p:spPr>
          <a:xfrm>
            <a:off x="4857840" y="1271520"/>
            <a:ext cx="1577880" cy="986040"/>
          </a:xfrm>
          <a:prstGeom prst="rect">
            <a:avLst/>
          </a:prstGeom>
          <a:ln w="0">
            <a:noFill/>
          </a:ln>
        </p:spPr>
      </p:pic>
      <p:sp>
        <p:nvSpPr>
          <p:cNvPr id="533" name="TextBox 5"/>
          <p:cNvSpPr/>
          <p:nvPr/>
        </p:nvSpPr>
        <p:spPr>
          <a:xfrm>
            <a:off x="4429080" y="2414520"/>
            <a:ext cx="250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 enough to be classified as an island but big enough to be a universe unto itself, Sardinia lies about 120 miles west of the Italian peninsula. Its coastline is probably Europe's most specta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7"/>
          <p:cNvSpPr/>
          <p:nvPr/>
        </p:nvSpPr>
        <p:spPr>
          <a:xfrm>
            <a:off x="5286240" y="507204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ick  anywhere to hide the inf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Pop Up Info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Quiz 1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76092"/>
                </a:solidFill>
                <a:latin typeface="Calibri"/>
              </a:rPr>
              <a:t>What picture represents the capital of the UK?</a:t>
            </a:r>
            <a:endParaRPr b="0" lang="en-US" sz="22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497" name="Picture 2" descr="C:\Documents and Settings\John\Local Settings\Temporary Internet Files\Content.IE5\Y3ZQY7N4\MPj04021610000[1].jpg"/>
          <p:cNvPicPr/>
          <p:nvPr/>
        </p:nvPicPr>
        <p:blipFill>
          <a:blip r:embed="rId1"/>
          <a:stretch/>
        </p:blipFill>
        <p:spPr>
          <a:xfrm>
            <a:off x="500040" y="2643120"/>
            <a:ext cx="3900600" cy="31226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C:\Documents and Settings\John\Local Settings\Temporary Internet Files\Content.IE5\7TV6865B\MPj04075810000[1].jpg"/>
          <p:cNvPicPr/>
          <p:nvPr/>
        </p:nvPicPr>
        <p:blipFill>
          <a:blip r:embed="rId2"/>
          <a:stretch/>
        </p:blipFill>
        <p:spPr>
          <a:xfrm>
            <a:off x="4643280" y="2643120"/>
            <a:ext cx="39657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Quiz 1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76092"/>
                </a:solidFill>
                <a:latin typeface="Calibri"/>
              </a:rPr>
              <a:t>What picture represents traditional Indian dance?</a:t>
            </a:r>
            <a:endParaRPr b="0" lang="en-US" sz="22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01" name="Picture 2" descr="C:\Documents and Settings\John\Local Settings\Temporary Internet Files\Content.IE5\J1KM1NGS\MCj04353040000[1].wmf"/>
          <p:cNvPicPr/>
          <p:nvPr/>
        </p:nvPicPr>
        <p:blipFill>
          <a:blip r:embed="rId1"/>
          <a:stretch/>
        </p:blipFill>
        <p:spPr>
          <a:xfrm>
            <a:off x="1643040" y="3071880"/>
            <a:ext cx="1838520" cy="17524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C:\Documents and Settings\John\Local Settings\Temporary Internet Files\Content.IE5\M1GIRSSI\MCj04245900000[1].wmf"/>
          <p:cNvPicPr/>
          <p:nvPr/>
        </p:nvPicPr>
        <p:blipFill>
          <a:blip r:embed="rId2"/>
          <a:stretch/>
        </p:blipFill>
        <p:spPr>
          <a:xfrm>
            <a:off x="5500800" y="2857680"/>
            <a:ext cx="163836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Roll Over Imag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04" name="Picture 2" descr="professor-frink.bmp"/>
          <p:cNvPicPr/>
          <p:nvPr/>
        </p:nvPicPr>
        <p:blipFill>
          <a:blip r:embed="rId1"/>
          <a:stretch/>
        </p:blipFill>
        <p:spPr>
          <a:xfrm>
            <a:off x="2000160" y="1643040"/>
            <a:ext cx="5429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C:\Documents and Settings\John\Local Settings\Temporary Internet Files\Content.IE5\NVY6RCLK\MCj04336080000[1].wmf"/>
          <p:cNvPicPr/>
          <p:nvPr/>
        </p:nvPicPr>
        <p:blipFill>
          <a:blip r:embed="rId1"/>
          <a:stretch/>
        </p:blipFill>
        <p:spPr>
          <a:xfrm>
            <a:off x="303120" y="1135080"/>
            <a:ext cx="3768840" cy="4844880"/>
          </a:xfrm>
          <a:prstGeom prst="rect">
            <a:avLst/>
          </a:prstGeom>
          <a:ln w="0">
            <a:noFill/>
          </a:ln>
        </p:spPr>
      </p:pic>
      <p:sp>
        <p:nvSpPr>
          <p:cNvPr id="506" name="Oval 6"/>
          <p:cNvSpPr/>
          <p:nvPr/>
        </p:nvSpPr>
        <p:spPr>
          <a:xfrm>
            <a:off x="285840" y="3571920"/>
            <a:ext cx="857160" cy="1214280"/>
          </a:xfrm>
          <a:prstGeom prst="ellipse">
            <a:avLst/>
          </a:prstGeom>
          <a:solidFill>
            <a:srgbClr val="4f81b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5286240" y="507204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ick  on Sardinia to reveal  the inf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ction Button: Custom 7">
            <a:hlinkClick r:id="" action="ppaction://hlinkshowjump?jump=endshow"/>
          </p:cNvPr>
          <p:cNvSpPr/>
          <p:nvPr/>
        </p:nvSpPr>
        <p:spPr>
          <a:xfrm>
            <a:off x="7715160" y="6286680"/>
            <a:ext cx="857520" cy="357120"/>
          </a:xfrm>
          <a:custGeom>
            <a:avLst/>
            <a:gdLst>
              <a:gd name="textAreaLeft" fmla="*/ 23040 w 857520"/>
              <a:gd name="textAreaRight" fmla="*/ 834480 w 857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1836" h="21600">
                <a:moveTo>
                  <a:pt x="0" y="0"/>
                </a:moveTo>
                <a:lnTo>
                  <a:pt x="51836" y="0"/>
                </a:lnTo>
                <a:lnTo>
                  <a:pt x="51836" y="21600"/>
                </a:lnTo>
                <a:lnTo>
                  <a:pt x="0" y="21600"/>
                </a:lnTo>
                <a:close/>
              </a:path>
              <a:path fill="lightenLess" w="51836" h="21600">
                <a:moveTo>
                  <a:pt x="0" y="0"/>
                </a:moveTo>
                <a:lnTo>
                  <a:pt x="51836" y="0"/>
                </a:lnTo>
                <a:lnTo>
                  <a:pt x="50436" y="1400"/>
                </a:lnTo>
                <a:lnTo>
                  <a:pt x="1400" y="1400"/>
                </a:lnTo>
                <a:close/>
              </a:path>
              <a:path fill="darken" w="51836" h="21600">
                <a:moveTo>
                  <a:pt x="51836" y="0"/>
                </a:moveTo>
                <a:lnTo>
                  <a:pt x="51836" y="21600"/>
                </a:lnTo>
                <a:lnTo>
                  <a:pt x="50436" y="20200"/>
                </a:lnTo>
                <a:lnTo>
                  <a:pt x="50436" y="1400"/>
                </a:lnTo>
                <a:close/>
              </a:path>
              <a:path fill="darkenLess" w="51836" h="21600">
                <a:moveTo>
                  <a:pt x="51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36" y="20200"/>
                </a:lnTo>
                <a:close/>
              </a:path>
              <a:path fill="lighten" w="51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Pop Up Info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>
            <a:hlinkClick r:id="" action="ppaction://hlinkshowjump?jump=nextslide"/>
          </p:cNvPr>
          <p:cNvSpPr/>
          <p:nvPr/>
        </p:nvSpPr>
        <p:spPr>
          <a:xfrm>
            <a:off x="1285920" y="1214280"/>
            <a:ext cx="6786360" cy="4929480"/>
          </a:xfrm>
          <a:prstGeom prst="rect">
            <a:avLst/>
          </a:prstGeom>
          <a:solidFill>
            <a:srgbClr val="4f81b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Roll Over Imag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12" name="Picture 2" descr="professor-frink.bmp"/>
          <p:cNvPicPr/>
          <p:nvPr/>
        </p:nvPicPr>
        <p:blipFill>
          <a:blip r:embed="rId1"/>
          <a:stretch/>
        </p:blipFill>
        <p:spPr>
          <a:xfrm>
            <a:off x="2000160" y="1643040"/>
            <a:ext cx="5429520" cy="4071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0000034335_20061020191516.jpg"/>
          <p:cNvPicPr/>
          <p:nvPr/>
        </p:nvPicPr>
        <p:blipFill>
          <a:blip r:embed="rId2"/>
          <a:srcRect l="0" t="0" r="404" b="46097"/>
          <a:stretch/>
        </p:blipFill>
        <p:spPr>
          <a:xfrm>
            <a:off x="2000160" y="1643040"/>
            <a:ext cx="5429520" cy="40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Roll Over Imag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15" name="Picture 2" descr="professor-frink.bmp"/>
          <p:cNvPicPr/>
          <p:nvPr/>
        </p:nvPicPr>
        <p:blipFill>
          <a:blip r:embed="rId1"/>
          <a:stretch/>
        </p:blipFill>
        <p:spPr>
          <a:xfrm>
            <a:off x="2000160" y="1643040"/>
            <a:ext cx="5429520" cy="40719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0000034335_20061020191516.jpg"/>
          <p:cNvPicPr/>
          <p:nvPr/>
        </p:nvPicPr>
        <p:blipFill>
          <a:blip r:embed="rId2"/>
          <a:srcRect l="0" t="0" r="404" b="46097"/>
          <a:stretch/>
        </p:blipFill>
        <p:spPr>
          <a:xfrm>
            <a:off x="2000160" y="1643040"/>
            <a:ext cx="5429520" cy="40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Sorry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18" name="Picture 2" descr="C:\Documents and Settings\John\Local Settings\Temporary Internet Files\Content.IE5\U9ZNHCOW\MCj04244840000[1].wmf"/>
          <p:cNvPicPr/>
          <p:nvPr/>
        </p:nvPicPr>
        <p:blipFill>
          <a:blip r:embed="rId1"/>
          <a:stretch/>
        </p:blipFill>
        <p:spPr>
          <a:xfrm>
            <a:off x="3594240" y="2533680"/>
            <a:ext cx="195552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3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oo Hoo!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20" name="Picture 3" descr="C:\Documents and Settings\John\Local Settings\Temporary Internet Files\Content.IE5\J1KM1NGS\MCj04244480000[1].wmf"/>
          <p:cNvPicPr/>
          <p:nvPr/>
        </p:nvPicPr>
        <p:blipFill>
          <a:blip r:embed="rId1"/>
          <a:stretch/>
        </p:blipFill>
        <p:spPr>
          <a:xfrm>
            <a:off x="2000160" y="2597040"/>
            <a:ext cx="3019680" cy="3189240"/>
          </a:xfrm>
          <a:prstGeom prst="rect">
            <a:avLst/>
          </a:prstGeom>
          <a:ln w="0">
            <a:noFill/>
          </a:ln>
        </p:spPr>
      </p:pic>
      <p:sp>
        <p:nvSpPr>
          <p:cNvPr id="521" name="Oval Callout 4"/>
          <p:cNvSpPr/>
          <p:nvPr/>
        </p:nvSpPr>
        <p:spPr>
          <a:xfrm>
            <a:off x="3286080" y="1668600"/>
            <a:ext cx="3286080" cy="2786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558ed5">
              <a:alpha val="39000"/>
            </a:srgbClr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76092"/>
                </a:solidFill>
                <a:latin typeface="Calibri"/>
              </a:rPr>
              <a:t>You're Rig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9:18:12Z</dcterms:created>
  <dc:creator>John Wilson</dc:creator>
  <dc:description/>
  <dc:language>en-US</dc:language>
  <cp:lastModifiedBy>John Wilson</cp:lastModifiedBy>
  <dcterms:modified xsi:type="dcterms:W3CDTF">2008-03-17T10:17:05Z</dcterms:modified>
  <cp:revision>9</cp:revision>
  <dc:subject/>
  <dc:title>Mouse over Animation Illusion</dc:title>
</cp:coreProperties>
</file>